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CA5-E326-4D9D-8FD0-F20B0209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AC3-C4ED-4435-B860-745AF7EE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0BC-9D6A-4729-B240-63842FAC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392-D2DF-45F4-A3D7-B2F04476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3CC2-E49C-4188-8ABE-F9BF1D39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A5D9-45BF-4717-A240-96F8EB2A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3CE-3E26-4BEB-8568-9832237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EBAF-63DE-4858-8748-150FA1E9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79F0-C1F7-4ABA-BB07-5E24637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C3B0-F849-4FD0-953D-CFD09B64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4355-A0F9-4502-90A6-9B5894B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DB9-7118-4619-91F2-E7CC5F4F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5758-C81B-4857-BFA9-E517D6FA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64D-6582-4786-B19F-26358D79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5C0C-3369-418B-AD24-2EA9603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106E-C6AA-43A2-87FA-E212AD32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2C16-9C09-475E-93BA-410D205B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3949-45AA-477B-BB80-241F4B5B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8E20-023F-460F-9B8F-EC0823A5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124E-7CEB-4228-9028-A99FFFC5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AD16-A9A5-4752-8295-DFF17C29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3509-024C-44D8-9A16-42A9AE5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3CB-E867-4E93-B1AF-B139A38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0280-472A-4128-9AB6-91D30A32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725E-358F-4B6B-AD9B-25565DF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10F6-CEA3-495A-9628-BD7C920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662F-F5BC-41E2-8638-2A6549F4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2CBA-9A5E-4AD8-AFC6-7F5F1299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03BF-EF3C-4533-A21C-87DEFAEE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1E55-CBC3-4549-997E-BE40157C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655C-C151-416A-8519-4738C15E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ECB1-AAF0-4A2F-81BD-0E98423B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7A0E-E587-4BC9-8F4F-7561179C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094-9252-4BD6-B747-FB37268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B8452-D70D-48BF-B968-42EE6EB2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B210-FC9E-49D1-8811-F8C24351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7214-E2C1-486D-B48D-74258054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B0C0-4963-4BEA-A591-3527ADA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744F-9676-41E4-BA1F-6C811048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CB45-E7CB-4427-8CC9-4D3C059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A59E-D79A-4C96-BB15-C8B2C2BA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A280-FD97-498C-992B-66DF109A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3280" y="181908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3280" y="4497120"/>
            <a:ext cx="291384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B62C-30A2-462D-8264-DA3EA06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504-6ACC-48A9-932C-ACE9E96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9240"/>
            <a:ext cx="90504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81F-7791-4ACA-ABB5-549BD43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A51-11C4-48CE-8FA0-E51D212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49712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4D6-85AF-48FC-8120-CC22B5A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1819080"/>
            <a:ext cx="441648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7120"/>
            <a:ext cx="9050400" cy="244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D4B-4F6D-443A-9318-05DF108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08012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0160" y="708012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1520" y="708012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F6450-D28E-41D3-83C7-CEB791A21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4560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5800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0160" y="685800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11520" y="685800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E45F1-AA46-447A-A004-636AE3131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64004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814320"/>
            <a:ext cx="9050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552600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0160" y="552600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11520" y="552600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3A974-6587-4107-A243-9BC025D8D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0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7080120"/>
            <a:ext cx="23414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0160" y="7080120"/>
            <a:ext cx="31860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11520" y="7080120"/>
            <a:ext cx="2341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70F7F-8807-40CB-B9DB-3327F4C8391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18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aiting for the Rain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1819080"/>
            <a:ext cx="90518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Morgan F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9240"/>
            <a:ext cx="90518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frican Artwor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819080"/>
            <a:ext cx="452592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king of pottery in Africa began around the 7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llennium B.C. and continues to this day in the various regions of the contin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53880"/>
            <a:ext cx="90518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o made the pottery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1819440"/>
            <a:ext cx="45259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 pottery was made by women. Clay is worked on mostly by hand into the desire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51560" y="1600200"/>
            <a:ext cx="3592440" cy="297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02240" y="48006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53880"/>
            <a:ext cx="90518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rying and Kilning the  Cla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819440"/>
            <a:ext cx="45259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drying the clay, the pots are put in a pile and covered with wood, bark or cow dung and baked outdoors in an open fire. In Nigeria and  Mali, real kilns are used  to bake the p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715000" y="4800600"/>
            <a:ext cx="4114800" cy="2825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0:54:45Z</dcterms:created>
  <dc:creator>mark finn</dc:creator>
  <dc:description/>
  <dc:language>en-US</dc:language>
  <cp:lastModifiedBy>mark finn</cp:lastModifiedBy>
  <dcterms:modified xsi:type="dcterms:W3CDTF">2010-11-04T22:59:28Z</dcterms:modified>
  <cp:revision>3</cp:revision>
  <dc:subject/>
  <dc:title/>
</cp:coreProperties>
</file>